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32.xml.rels" ContentType="application/vnd.openxmlformats-package.relationships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wmf" ContentType="image/x-wmf"/>
  <Override PartName="/ppt/media/image4.png" ContentType="image/png"/>
  <Override PartName="/ppt/media/image2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  <p:sldId id="286" r:id="rId52"/>
    <p:sldId id="287" r:id="rId53"/>
    <p:sldId id="288" r:id="rId54"/>
    <p:sldId id="289" r:id="rId55"/>
    <p:sldId id="290" r:id="rId56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slide" Target="slides/slide31.xml"/><Relationship Id="rId53" Type="http://schemas.openxmlformats.org/officeDocument/2006/relationships/slide" Target="slides/slide32.xml"/><Relationship Id="rId54" Type="http://schemas.openxmlformats.org/officeDocument/2006/relationships/slide" Target="slides/slide33.xml"/><Relationship Id="rId55" Type="http://schemas.openxmlformats.org/officeDocument/2006/relationships/slide" Target="slides/slide34.xml"/><Relationship Id="rId56" Type="http://schemas.openxmlformats.org/officeDocument/2006/relationships/slide" Target="slides/slide35.xml"/><Relationship Id="rId5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dt" idx="2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ftr" idx="22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6"/>
          <p:cNvSpPr>
            <a:spLocks noGrp="1"/>
          </p:cNvSpPr>
          <p:nvPr>
            <p:ph type="sldNum" idx="23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E986384-D125-4DF5-AF38-F649DC59458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C28D062-66E1-4E42-9D52-7D57E30E0DBE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B168DEE-3706-4A47-8F6F-66F4799DEB45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5348-E3DE-4F7C-B8C2-CB6DBCAAC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053A-DC79-4EB1-B75F-470274C8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A8BD0B1-2752-4BB3-86C0-01E91597E327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CD65B6-7CAB-4E79-B635-06EB06D51452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F63797-F7E3-4718-9BA7-C57671F846F8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728DFA-D483-4520-ADA3-85D1FE0A787C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51EA73-D4AF-49C2-AC53-C24429A0A799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014C36-59CD-4100-887E-2BB1F54A2FD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6AC5DAC-8DD1-4018-9053-92CCBE0C814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69D9899-6F8A-4CA2-A7FA-8F3CF85104C6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95D43C2-2E73-4C95-999A-0AA48AE265D4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336CB8-FE2E-407F-BBE1-A687128670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DE3D-5CFE-4975-9AC1-019BB0094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0B78A20-B9A8-4F4B-B1F1-9E0CB9E6637E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2CC3146-1C4F-4B79-B076-DD114E9695A6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3F2ACDD-DBBD-4EFC-8621-E25BFD5B4C9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3C54F8-87DB-448B-B354-89E9859D43BD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17DD386-A334-451F-9FEB-A6910578C33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8EC16B6-7BD4-44C3-B2D9-D752FC7561C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B2C5D80-A5B8-4C20-A59F-CDA37EC81EA7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18865AE-5965-45AB-91DB-0638A70215F4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BC2BACA-7C62-437F-B533-D6E09FA6F25C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403BF16-F24D-40D0-BA27-5D41BB1E56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FA1C9-7E8D-4DCC-A0B1-CB2D3539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1C44D9-1172-489F-8D40-432E6227C969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BFA486-5DB5-4B24-8687-8A972F615BD7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8EB184-2E4A-48D6-A497-680FEEC51A39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85021-F48A-463A-9ECF-CDA15EE83A29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218563-6224-4F39-9E7A-994BDC6FCA46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BE860F-0BBF-4FEE-B408-5853CBE4A479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298E5-FD55-4107-84F6-1B65C2E90552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74741D-9FDD-4FA7-8FA1-D4A877DB47D6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08B24-2EBF-4A9F-953B-9EB9F5EADAA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37456F-0D4B-46B3-8660-9B519FDFF0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179BF-36F5-4556-BFA3-CAB41B4E704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E33D3-4A4E-4AB7-BDC6-3717D0340513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79E15-9A2E-4BB7-A0A7-D403227D8A66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F2139BD-F173-4AE6-A006-D046F37E05A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59A143-2C6B-485B-A148-95EB68A19549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70DCFB6-8E97-40CB-85A3-C4C3A0C2EE67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6795980-86B7-4310-A509-32192995C21B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DD55A33-F38C-48FD-9E82-F605E1D88E9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1A94292-13D2-4E33-9CC7-2908AB23C056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560B287-0EAC-41E0-A055-41935375755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30FF04A-1446-4D4C-AC6E-A40C85F8F14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D1B6A4-7F38-43C4-9BC7-9CB16D5659F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4EF6B0-9A8B-43E1-848B-16C6320A91C3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ECDC114-20F1-4835-A4A3-C9DFF894864C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B2F7CA2-D76A-4A40-A6E4-B1BC92DE741F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E9475E5-3646-4DBB-9130-6E517EEE094E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D4EF80-D060-42FF-AEFC-3B265E50CD3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37EBF4-BF7C-4C99-93AE-E9ABDDA98FAD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EBEA68-A70D-4D68-B5AD-07B1469902B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F483E5-74FA-4AA0-8BF7-4FC9AB3A6B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FE18C4-87D3-4690-AD02-71E91B4127B4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858694A-2A3B-4747-B036-8284E424278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68E51EF-0E32-48E3-B8E8-236AAB18D54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D43690E-A19C-417D-9D54-B08288946BA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C181BB-7C9D-4739-B0EF-901AA296F97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B998C25-A00D-4884-8C5C-D005473DB65B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1B013BA-B6F1-4BF3-B68F-9020376060D6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593921-211B-4299-8190-251DD27F4760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DB4A7A-91FD-4DA3-AAC4-CA8331816E49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445F6-EA11-4FBA-86A1-1E90C070627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F2E861-D69C-4138-9B37-041546E7D79F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F43B20-EF34-427E-A27E-37BA49A57E77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2FBC0-8199-478B-B763-6E3A6626330E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83C64-9198-4B88-A71A-EAA7B9DBF473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4CC204-D87C-4DB5-B3E7-6FAA8459678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CEAB3-638C-4664-9FFF-98E606B2D03E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A0858-9C73-4683-AB2B-8FEBC605B9C1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0AA3D4-195A-4E12-A45B-A13E34EAC851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D2A76F-CADA-45B5-94F2-A460452F7CE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5D6FA76-2FD1-4253-AC53-90327C86691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F5D343-28A9-4EAB-AF45-CF75E571BA21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1E9E217-873D-4707-9AF2-1F2350382B5F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1DBC463-1095-4304-BB6B-3B73EA619718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6894A0-D0FB-4BEE-A829-3EAD1589F0AD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AD90DF8-DCA9-438B-A2D6-738C4356EFA2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96A4939-1425-4E1C-941B-E123EA00CD6C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3CB4022-5523-41C0-B6EE-4A80283B63A8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9901A25-84B0-4A31-8E29-FF35179F4DDF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257BDA2-EB5A-44D1-AF07-246975E1D30A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0AFB7BD-B88A-4FFF-97CD-1202ACE4AD5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C19ADB2-25DB-4437-AA19-9304BA744D83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8809F83-5F2E-49DB-BEB0-97785E327FA1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ECBC2F4-06C1-4150-9FAC-8BCFF716688A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33CAC4-C966-480F-AC17-FDE23B4584D2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AC54939-3002-4DD3-AB3C-AEADB97D84F6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218AD3B-C6D6-4EF6-9BBD-219E7FD3B03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EDE9AEF-B806-4DED-AC51-A4DD8F7320D1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E8754C8-CDA0-4430-8327-1065957F624C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1CC78D-2EF4-4291-925A-0855C5B06B40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735A9FC-C44F-41A0-8228-9ABFBBF0D8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41ACDA-CA5A-47C3-AFB5-1F736FA3C09F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07C6E3D-66A9-435A-8EB8-A7C27352626A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E5D02-1EC0-4EF8-A434-F122A7358A39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F7A9-533A-4440-8C7C-70D71A27A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723331F9-591E-4309-86B0-D02F57E195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B0D52AD-1B52-4D59-8942-1725658F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27623EC-0C91-4B1D-952D-87A6FC53A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C8B9EE87-C036-4FCF-AF9A-D88EF54F4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2009B15-F523-487D-94FF-A50734B795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04B8367-4D01-482C-9813-E127E889D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8491719-32C8-4785-BD02-4306681E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1578040-2BC9-4B94-8EBD-98BEE8BDA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768F2B-4DBE-497A-A5BB-6FB01F5F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6035CE-1A59-4B0F-8B0C-45E5F93D1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1203076-EB5E-482B-A85A-5BC238DBD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E05AD6-3591-430F-AC3A-E541ED019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0DA3886-F5B0-45AB-AE4A-5FC0126A38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D05617-6A22-41F0-A045-ED5F0545C70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C4DD8F-2165-401B-8627-B084372CA68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DC9D1-B824-43CB-8E06-5C3612A50D1B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7D600D-B93D-48BD-9C5B-E378AF45309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7143-409C-4970-9149-096F6F91C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40F0EC-3547-4076-8896-83D8CBC2AC2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0C283-502A-4FBB-95C9-68DF98AADF2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2EFA07-3E22-445C-89AB-902BD572CBA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16A1B57-F8D9-4484-B9F8-0ADAA3F2F0E9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9B4270-2E5B-4B4C-B4FB-D2955F5074C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D6E3AF-531D-4694-8930-D6A6D8A39CE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605611-2444-4D43-AF57-D561D07FA71F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7A66CB-DEF2-42DF-8A14-FCAA83D0E95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EC3F62-D4B4-4162-AE0C-133AACB2456F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2A76A3-202D-4183-BD83-A38845D3E3A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2F15-D820-400E-8009-FD6510731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BF1C7A-7A9F-4E37-AEBE-E8382F3F6382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AB4AC0-1512-492B-A1E4-DD657F41E9A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C7DF0C-B6A3-4F0D-95DE-568B546E0236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93D92A-4554-48B2-9CBC-B7D2CDD780D3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B98EF6-61BC-4CC1-9191-837435BB1BF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87EDB5-CDA2-4F6E-BF06-E8A1CC0DC5CC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80F680-71AB-4CB4-8AE5-8E32045873F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B0286F-F47F-4AE8-8B9D-D99C1D170EF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874E09-C848-415C-BB21-982410E1E950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FE8CC-F1F2-4F64-A26B-0E020998665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BD15E-171E-45D8-83B6-6939F900D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78B19-FFF1-4BA0-9C87-D6C8BCE73F33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2009C-20AB-4AA3-A76D-A86D14D9719F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B203D-F193-4B86-909B-A459A489BAE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D191-0677-40FF-A954-49025E9581F2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90F48-8BC3-415D-9AA7-ED8BA0233EE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D70D-657F-48EA-99B7-A975576058A5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E20E-C038-4DA1-A534-695807E7E85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40CF2-43A2-4710-8918-209D862DF8D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3DB9A-6042-44F9-B0E5-45F6B3085E27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2B48-3F85-4EF5-8F8C-9A4A39327E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D75A0-C845-4CCF-9DAA-0EFC7A78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5B17E-C792-4EE6-BCC9-68E734998A58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DB9662-6ED9-4BAF-B364-976EC14AC7E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80E2347-D502-46F3-82AD-F41293D3D1A7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307A0C0-3868-40D5-B2D0-C3A529635970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AB0970-BF55-47CB-B6F1-56BCE7840DD6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9E09C1-3623-4CBD-B75F-755CDB2A9701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F817792-3446-43FB-A2BE-F9D3A2FF732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B286E1-26D7-4282-B067-8717698A164F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94B4E1C-8807-40DA-B5B4-0E55353F65B8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E6C6C93-0587-4D38-BA5E-442DA1E7F5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C1B6-D4B5-408E-A6E3-189756E48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3704BF-7E8D-4B20-BA7E-24BE1FE1664E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60879FE-1948-4319-A981-2B7BBEB3F7E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1E6C87-4569-42DF-B2A6-371B2C972C9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35B19C-088E-485E-BFB6-1C7DCD0805F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879CD70-7194-44E3-AB60-96A76DD758F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21D4242-8E9F-4A47-B3A2-7CB3815E0CC0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3BAFDD2-67E9-40CB-B58A-0A05CBC08943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248EFE-07BD-4104-A3F0-404837E89B95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430BC2-F7DD-4E38-81A0-1960FB69443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D71512-2607-42DC-BA5F-D8BFE4836D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9B4C6-F784-428D-815F-933FF431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17C285A-D6A5-4F41-ACFC-3BA9C37F62F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33A8039-B0F6-496C-8F30-021F643BDAA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05EFF-C50D-47C4-9A69-6492C8D9131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D4AE746-7398-40AE-B754-7BA1AD7D34DA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8AB90E-C026-4846-A0AE-EE926D0F884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24484-24DA-4B98-BEE5-7C0BBCCA3BF4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7EFBB7-75B2-4A40-ABAC-AB48F61590A8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5A2623-88B0-4739-84D2-A38512A80147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0DC832-79EF-4F04-B0DE-B1D953AAE36E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B9873-98EF-4DAE-8942-46C236576D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2CB7-773A-4718-8DE6-3BFA13E5B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F5290-517D-429A-930F-C5996E64969B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770B91-11DB-4AF4-A5DA-2DA2673AEF71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3DAF31-27FE-4F9C-A91A-42815961616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82813B-AB9F-4272-BC78-89AA134DB067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9A5FB1-5912-459A-869A-90993E81D1C9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763D2F-9C83-40E8-A09D-C098EC5E58B6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479182-25FC-4BC7-9127-6F9117307710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B237FC-955E-4A0B-9C1F-9E06EF3EEA3E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77FBF7-806E-4875-8EFA-069553565C80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BDE62A3-D638-4647-9D45-43977EA08B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8DAF076D-43B5-40F4-B4F2-8E6FA26A2650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7D431EF-4B98-4AFD-BA73-3BE0C49AF7B9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BE7EA23-8B6A-47F4-8AE3-5FF794F9896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D80E227-0C1B-4920-B574-6568BAB7DA1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ED82321-0013-4AD9-BE0C-7928350A8E0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D307D02-D0C0-4921-AE83-5EA730F85C6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374F9EA-3B27-4B54-B266-0BCF6DDB095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920C62A-329B-42A4-B148-932F98928A2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C138B0D-B9B6-42D7-8F02-A15F1AD08F9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9BB3F22-B918-466C-93D3-669A0A41D99A}" type="datetime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 type="ftr" idx="1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BE01966-A1F8-4921-8CFA-58BE1D8A100B}" type="slidenum">
              <a:rPr b="0" lang="lv-LV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24CD693-88F2-474D-BF6B-1E87F2EC6AD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4A19CA6-EC63-428B-83AE-3AC0C112C51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9D4D052-C33A-41BD-91BB-3886126B67C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A77CF81-CAC5-4AE9-813A-F762B9F96B4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C6E716F-5908-4D99-8D9B-9C610D5D2B1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4BF14D9-13A8-474A-A978-D9A5F04650A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C3F5CEA-5325-4A3C-B184-BF34CF3AB44E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1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1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17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1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21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jektu sagatavošanai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2060"/>
                </a:solidFill>
                <a:latin typeface="Verdana"/>
                <a:ea typeface="Verdana"/>
              </a:rPr>
              <a:t>2021.gada 7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79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VIAA Izglītības atbalsta un starptautisk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 programmas kop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ējā statisti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10" name=""/>
          <p:cNvSpPr txBox="1"/>
          <p:nvPr/>
        </p:nvSpPr>
        <p:spPr>
          <a:xfrm>
            <a:off x="484200" y="2182320"/>
            <a:ext cx="5330880" cy="460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00"/>
                </a:solidFill>
                <a:uFillTx/>
                <a:latin typeface="Verdana"/>
                <a:ea typeface="Verdana"/>
              </a:rPr>
              <a:t>http://statistikk.nordplusonline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1" name="Picture 1" descr=""/>
          <p:cNvPicPr/>
          <p:nvPr/>
        </p:nvPicPr>
        <p:blipFill>
          <a:blip r:embed="rId2"/>
          <a:stretch/>
        </p:blipFill>
        <p:spPr>
          <a:xfrm>
            <a:off x="268200" y="3243240"/>
            <a:ext cx="8462880" cy="35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4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5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18" name=""/>
          <p:cNvGraphicFramePr/>
          <p:nvPr/>
        </p:nvGraphicFramePr>
        <p:xfrm>
          <a:off x="1082520" y="2300400"/>
          <a:ext cx="7755120" cy="350676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658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4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7 (64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19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1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www.nordplusonline.org/news-call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" descr=""/>
          <p:cNvPicPr/>
          <p:nvPr/>
        </p:nvPicPr>
        <p:blipFill>
          <a:blip r:embed="rId2"/>
          <a:stretch/>
        </p:blipFill>
        <p:spPr>
          <a:xfrm>
            <a:off x="1736640" y="2360520"/>
            <a:ext cx="631044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u iesniegšanas termiņš </a:t>
            </a:r>
            <a:r>
              <a:rPr b="0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– </a:t>
            </a:r>
            <a:r>
              <a:rPr b="1" lang="lv-LV" sz="2000" spc="-1" strike="noStrike">
                <a:solidFill>
                  <a:srgbClr val="ff0000"/>
                </a:solidFill>
                <a:latin typeface="Calibri"/>
                <a:ea typeface="Verdana"/>
              </a:rPr>
              <a:t>2021.gada 1.oktobris, plkst. 23.59.  pēc Norvēģijas laik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https://espresso.siu.no/espresso/login?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2" descr=""/>
          <p:cNvPicPr/>
          <p:nvPr/>
        </p:nvPicPr>
        <p:blipFill>
          <a:blip r:embed="rId1"/>
          <a:stretch/>
        </p:blipFill>
        <p:spPr>
          <a:xfrm>
            <a:off x="158760" y="457200"/>
            <a:ext cx="9121680" cy="500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rdplus programmas valstī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ieskaitot ceļā pavadīto laiku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no katras organizācijas/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ēm Nordplus sedz 100% ceļa izdevumus un uzturēšanās izdevumus saskaņā ar likmē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no 2021.gada 1.novembra līdz 2022. gada 1.februārim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ja plānots iesniegt projektu 2022. gada projektu konkursam)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, vai līdz 2021./2022.mācību gada beig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1897200" y="1506600"/>
            <a:ext cx="678960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Title 1"/>
          <p:cNvSpPr/>
          <p:nvPr/>
        </p:nvSpPr>
        <p:spPr>
          <a:xfrm>
            <a:off x="2266920" y="493560"/>
            <a:ext cx="6095880" cy="6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b7d91"/>
                </a:solidFill>
                <a:latin typeface="Verdana"/>
              </a:rPr>
              <a:t>Detalizēti apakšprogrammu apraksti pieejami Nordplus Rokasgrāmatā (IV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2"/>
          <p:cNvSpPr/>
          <p:nvPr/>
        </p:nvSpPr>
        <p:spPr>
          <a:xfrm>
            <a:off x="485640" y="2503440"/>
            <a:ext cx="3940200" cy="182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Katru gadu pirms projektu konkursa tiek publicēta rokasgrāmatas atjaunotā versi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</a:rPr>
              <a:t>2021.gada Nordplus Rokasgrāmata (angļu valodā) pieejama: </a:t>
            </a:r>
            <a:r>
              <a:rPr b="0" lang="lv-LV" sz="1800" spc="-1" strike="noStrike">
                <a:solidFill>
                  <a:srgbClr val="000000"/>
                </a:solidFill>
                <a:latin typeface="Calibri"/>
              </a:rPr>
              <a:t>https://www.nordplusonline.org/how-to-apply/handbook/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6" name="Picture 2" descr=""/>
          <p:cNvPicPr/>
          <p:nvPr/>
        </p:nvPicPr>
        <p:blipFill>
          <a:blip r:embed="rId1"/>
          <a:stretch/>
        </p:blipFill>
        <p:spPr>
          <a:xfrm>
            <a:off x="5784840" y="1795320"/>
            <a:ext cx="287352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TextBox 9"/>
          <p:cNvSpPr/>
          <p:nvPr/>
        </p:nvSpPr>
        <p:spPr>
          <a:xfrm>
            <a:off x="846000" y="4124160"/>
            <a:ext cx="2017800" cy="19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i="1" lang="lv-LV" sz="1700" spc="-1" strike="noStrike">
                <a:solidFill>
                  <a:srgbClr val="002060"/>
                </a:solidFill>
                <a:latin typeface="Calibri"/>
                <a:ea typeface="Calibri"/>
              </a:rPr>
              <a:t>Nordplus Rokasgrāmata (2021.) par sagatavošanas vizītēm, 18.lpp; 44.lpp , 64.lpp, 65 lpp., 72.lpp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9" name="Picture 2" descr=""/>
          <p:cNvPicPr/>
          <p:nvPr/>
        </p:nvPicPr>
        <p:blipFill>
          <a:blip r:embed="rId1"/>
          <a:stretch/>
        </p:blipFill>
        <p:spPr>
          <a:xfrm>
            <a:off x="1952640" y="1189080"/>
            <a:ext cx="4826160" cy="293508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" descr=""/>
          <p:cNvPicPr/>
          <p:nvPr/>
        </p:nvPicPr>
        <p:blipFill>
          <a:blip r:embed="rId2"/>
          <a:stretch/>
        </p:blipFill>
        <p:spPr>
          <a:xfrm>
            <a:off x="5280120" y="3538440"/>
            <a:ext cx="3481200" cy="345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 txBox="1"/>
          <p:nvPr/>
        </p:nvSpPr>
        <p:spPr>
          <a:xfrm>
            <a:off x="1703520" y="1252440"/>
            <a:ext cx="744048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u Ministru padomes programma Ziemeļvalstu un Baltijas valstu sadarbībai izglītības jomā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5 apakšprogramm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Jaunieš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ākās izglītīb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Pieaugušo izglītība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Horizontāl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valod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Oficiālais portāls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nordplusonline.org/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Informācija VIAA portālā latvisk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https://www.viaa.gov.lv/lv/nordplu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V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Times New Roman"/>
              </a:rPr>
              <a:t>Ceļa izdevumi savā  valstī, ja pārsniedz 500 km – 150 eur 1 dalībniekam. (uz Latviju nav attiecināmi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apakš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!! Kā projekta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apakš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 txBox="1"/>
          <p:nvPr/>
        </p:nvSpPr>
        <p:spPr>
          <a:xfrm>
            <a:off x="1993680" y="1349280"/>
            <a:ext cx="6692760" cy="4840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- 100% 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no piešķirtā finansējuma saskaņā ar plānotajām vienības izmaksā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tīkliem un projektiem kopš 2021. gada līdzfinansējuma apjoms </a:t>
            </a:r>
            <a:r>
              <a:rPr b="1" lang="lv-LV" sz="20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nav noteikts</a:t>
            </a: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3" name="Picture 2" descr=""/>
          <p:cNvPicPr/>
          <p:nvPr/>
        </p:nvPicPr>
        <p:blipFill>
          <a:blip r:embed="rId1"/>
          <a:stretch/>
        </p:blipFill>
        <p:spPr>
          <a:xfrm>
            <a:off x="4308480" y="1647720"/>
            <a:ext cx="4282920" cy="1386000"/>
          </a:xfrm>
          <a:prstGeom prst="rect">
            <a:avLst/>
          </a:prstGeom>
          <a:ln w="0">
            <a:noFill/>
          </a:ln>
        </p:spPr>
      </p:pic>
      <p:pic>
        <p:nvPicPr>
          <p:cNvPr id="854" name="Picture 3" descr=""/>
          <p:cNvPicPr/>
          <p:nvPr/>
        </p:nvPicPr>
        <p:blipFill>
          <a:blip r:embed="rId2"/>
          <a:stretch/>
        </p:blipFill>
        <p:spPr>
          <a:xfrm>
            <a:off x="4408560" y="3127320"/>
            <a:ext cx="4487760" cy="2274840"/>
          </a:xfrm>
          <a:prstGeom prst="rect">
            <a:avLst/>
          </a:prstGeom>
          <a:ln w="0">
            <a:noFill/>
          </a:ln>
        </p:spPr>
      </p:pic>
      <p:sp>
        <p:nvSpPr>
          <p:cNvPr id="855" name="Rectangle 2"/>
          <p:cNvSpPr/>
          <p:nvPr/>
        </p:nvSpPr>
        <p:spPr>
          <a:xfrm>
            <a:off x="4857840" y="5649840"/>
            <a:ext cx="377640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a apraksts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24. – 25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2411280" y="423720"/>
            <a:ext cx="6485040" cy="9446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Jauniešu Sadarbības projektu un tīkl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7" name="Picture 3" descr=""/>
          <p:cNvPicPr/>
          <p:nvPr/>
        </p:nvPicPr>
        <p:blipFill>
          <a:blip r:embed="rId3"/>
          <a:stretch/>
        </p:blipFill>
        <p:spPr>
          <a:xfrm>
            <a:off x="109440" y="1652760"/>
            <a:ext cx="3992760" cy="2474640"/>
          </a:xfrm>
          <a:prstGeom prst="rect">
            <a:avLst/>
          </a:prstGeom>
          <a:ln w="0">
            <a:noFill/>
          </a:ln>
        </p:spPr>
      </p:pic>
      <p:sp>
        <p:nvSpPr>
          <p:cNvPr id="858" name="Rectangle 2"/>
          <p:cNvSpPr/>
          <p:nvPr/>
        </p:nvSpPr>
        <p:spPr>
          <a:xfrm>
            <a:off x="358920" y="4363920"/>
            <a:ext cx="377964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Jauniešu apakšpr.  sadarbības projektu pieteikumu veidlapa, pieejama https://espresso.diku.n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apakš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</a:t>
            </a:r>
            <a:r>
              <a:rPr b="0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ir visi un jebkurš pieaugušo izglītībā iesaistītais (formālā, neformālā, vispārējā, profesionālā izglītība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206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ff0000"/>
                </a:solidFill>
                <a:latin typeface="Calibri"/>
                <a:ea typeface="Verdana"/>
              </a:rPr>
              <a:t>!!!</a:t>
            </a:r>
            <a:r>
              <a:rPr b="1" lang="lv-LV" sz="2300" spc="-1" strike="noStrike">
                <a:solidFill>
                  <a:srgbClr val="002060"/>
                </a:solidFill>
                <a:latin typeface="Calibri"/>
                <a:ea typeface="Verdana"/>
              </a:rPr>
              <a:t>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apakš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206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tematisko tīklu 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attīstīb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plānošanas projekti</a:t>
            </a:r>
            <a:r>
              <a:rPr b="0" lang="lv-LV" sz="2000" spc="-1" strike="noStrike">
                <a:solidFill>
                  <a:srgbClr val="002060"/>
                </a:solidFill>
                <a:latin typeface="Calibri"/>
                <a:ea typeface="Calibri"/>
              </a:rPr>
              <a:t>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izglītības projektu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206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966600" y="1547640"/>
            <a:ext cx="8002440" cy="32623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vadības, īstenošanas un publicitātes izmaksa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fiksēta summa projekta koordinatoram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3000 EUR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, projekta partneriem – </a:t>
            </a: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1000 EUR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Projekta (starptautiskās) tikšanā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ceļa un uzturēšanās izdevumi projektā iesaistīto partneru dalībai plānošanas, projekta koordinēšanas sanāksmēm, semināriem, mācību kursiem saskaņā ar noteiktajām likmēm ceļa un uzturēšanās izdevumie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1" name="Picture 4" descr=""/>
          <p:cNvPicPr/>
          <p:nvPr/>
        </p:nvPicPr>
        <p:blipFill>
          <a:blip r:embed="rId1"/>
          <a:srcRect l="3218" t="7703" r="1798" b="5770"/>
          <a:stretch/>
        </p:blipFill>
        <p:spPr>
          <a:xfrm>
            <a:off x="2752560" y="4700520"/>
            <a:ext cx="5642280" cy="1819440"/>
          </a:xfrm>
          <a:prstGeom prst="rect">
            <a:avLst/>
          </a:prstGeom>
          <a:ln w="0">
            <a:noFill/>
          </a:ln>
        </p:spPr>
      </p:pic>
      <p:sp>
        <p:nvSpPr>
          <p:cNvPr id="872" name="Rectangle 2"/>
          <p:cNvSpPr/>
          <p:nvPr/>
        </p:nvSpPr>
        <p:spPr>
          <a:xfrm>
            <a:off x="201600" y="5310360"/>
            <a:ext cx="238608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 txBox="1"/>
          <p:nvPr/>
        </p:nvSpPr>
        <p:spPr>
          <a:xfrm>
            <a:off x="966600" y="1593360"/>
            <a:ext cx="8002440" cy="2311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270000" algn="just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Vienības izmaksas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270000" algn="just">
              <a:lnSpc>
                <a:spcPct val="100000"/>
              </a:lnSpc>
              <a:spcBef>
                <a:spcPts val="601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254061"/>
                </a:solidFill>
                <a:latin typeface="Calibri"/>
              </a:rPr>
              <a:t>Izstrādes darbs </a:t>
            </a:r>
            <a:r>
              <a:rPr b="0" lang="lv-LV" sz="2200" spc="-1" strike="noStrike">
                <a:solidFill>
                  <a:srgbClr val="254061"/>
                </a:solidFill>
                <a:latin typeface="Calibri"/>
              </a:rPr>
              <a:t>– darba apmaksai, kas ieguldītas projekta ietvaros paredzētā produkta radīšanai (izglītojošie materiāli, mācību programmas, metodes, u.c.), saskaņā ar noteiktajām likmēm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Rectangle 3"/>
          <p:cNvSpPr/>
          <p:nvPr/>
        </p:nvSpPr>
        <p:spPr>
          <a:xfrm>
            <a:off x="1770120" y="511200"/>
            <a:ext cx="6972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 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</a:rPr>
              <a:t>Pieaugušo izglītības sadarbības projektu finansēju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6" name="Picture 4" descr=""/>
          <p:cNvPicPr/>
          <p:nvPr/>
        </p:nvPicPr>
        <p:blipFill>
          <a:blip r:embed="rId1"/>
          <a:stretch/>
        </p:blipFill>
        <p:spPr>
          <a:xfrm>
            <a:off x="2614680" y="3659040"/>
            <a:ext cx="6218280" cy="2330640"/>
          </a:xfrm>
          <a:prstGeom prst="rect">
            <a:avLst/>
          </a:prstGeom>
          <a:ln w="0">
            <a:noFill/>
          </a:ln>
        </p:spPr>
      </p:pic>
      <p:sp>
        <p:nvSpPr>
          <p:cNvPr id="877" name="Rectangle 2"/>
          <p:cNvSpPr/>
          <p:nvPr/>
        </p:nvSpPr>
        <p:spPr>
          <a:xfrm>
            <a:off x="291960" y="4402080"/>
            <a:ext cx="2086200" cy="10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Sadarbības projektu finansējums  (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Rokasgrāmata 2021</a:t>
            </a: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., 51. lpp)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206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apakš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visi ieinteresētie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     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8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– dāņu, somu, norvēģu, zviedru, sāmu, islandiešu, fēriešu, grenlandiešu valoda, zīmju valoda (ziemeļvalstu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konferences, semināri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publikācijas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206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2214720" y="380880"/>
            <a:ext cx="64720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jektu dalībnieki</a:t>
            </a:r>
            <a:br>
              <a:rPr sz="25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ama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vidusskol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augstskolas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zinātniskās institū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nevalstiskās organizācija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70000"/>
              </a:lnSpc>
              <a:spcBef>
                <a:spcPts val="476"/>
              </a:spcBef>
              <a:buClr>
                <a:srgbClr val="00206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Times New Roman"/>
              </a:rPr>
              <a:t>privātuzņēmumi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rojekta iesniedzējs +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1 sadarbības partneris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Nordplus programmas finansējums -  līdz 75%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 no aktivitāšu izmaksām, 25% - projekta īstenotāju līdzfinansējum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! </a:t>
            </a:r>
            <a:r>
              <a:rPr b="0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1900" spc="-1" strike="noStrike">
                <a:solidFill>
                  <a:srgbClr val="002060"/>
                </a:solidFill>
                <a:latin typeface="Calibri"/>
                <a:ea typeface="Verdana"/>
              </a:rPr>
              <a:t>angļu valodā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 txBox="1"/>
          <p:nvPr/>
        </p:nvSpPr>
        <p:spPr>
          <a:xfrm>
            <a:off x="1855800" y="1279080"/>
            <a:ext cx="6905520" cy="5025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Tiešie izdevum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ceļa un uzturēšanās izdevumi, telpu noma semināriem, materiālu drukāšana semināriem, samaksa vieslektoriem, specifisku darbu izpildītājie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administratīvās izmaksas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līdz 5%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no </a:t>
            </a:r>
            <a:r>
              <a:rPr b="0" i="1" lang="lv-LV" sz="2000" spc="-1" strike="noStrike">
                <a:solidFill>
                  <a:srgbClr val="254061"/>
                </a:solidFill>
                <a:latin typeface="Calibri"/>
              </a:rPr>
              <a:t>Nordplus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 finansējuma projekta koordinēšanas nodrošināšanai (pamatojošie dokumenti nav nepieciešami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 algn="just">
              <a:lnSpc>
                <a:spcPct val="100000"/>
              </a:lnSpc>
              <a:spcBef>
                <a:spcPts val="499"/>
              </a:spcBef>
              <a:buClr>
                <a:srgbClr val="254061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</a:rPr>
              <a:t>Projektā iesaistītajiem darbiniekiem - samaksa par darbu, kas ir ieguldīts projekta izglītības rezultātu/produktu radīšanā </a:t>
            </a:r>
            <a:r>
              <a:rPr b="0" lang="lv-LV" sz="2000" spc="-1" strike="noStrike">
                <a:solidFill>
                  <a:srgbClr val="254061"/>
                </a:solidFill>
                <a:latin typeface="Calibri"/>
              </a:rPr>
              <a:t>(mācību programma, mācību līdzekļi, mācību metodes utt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6" name="Picture 2" descr=""/>
          <p:cNvPicPr/>
          <p:nvPr/>
        </p:nvPicPr>
        <p:blipFill>
          <a:blip r:embed="rId1"/>
          <a:stretch/>
        </p:blipFill>
        <p:spPr>
          <a:xfrm>
            <a:off x="1490760" y="1712880"/>
            <a:ext cx="7653240" cy="3576600"/>
          </a:xfrm>
          <a:prstGeom prst="rect">
            <a:avLst/>
          </a:prstGeom>
          <a:ln w="0">
            <a:noFill/>
          </a:ln>
        </p:spPr>
      </p:pic>
      <p:sp>
        <p:nvSpPr>
          <p:cNvPr id="887" name="Rectangle 2"/>
          <p:cNvSpPr/>
          <p:nvPr/>
        </p:nvSpPr>
        <p:spPr>
          <a:xfrm>
            <a:off x="136440" y="2739960"/>
            <a:ext cx="144936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1f4e79"/>
                </a:solidFill>
                <a:latin typeface="Calibri"/>
              </a:rPr>
              <a:t> </a:t>
            </a:r>
            <a:r>
              <a:rPr b="0" i="1" lang="lv-LV" sz="1800" spc="-1" strike="noStrike">
                <a:solidFill>
                  <a:srgbClr val="1f4e79"/>
                </a:solidFill>
                <a:latin typeface="Calibri"/>
              </a:rPr>
              <a:t>Budžeta sadaļa projekta pieteikuma veidlapā, Espresso sistēma https://espresso.siu.no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2241360" y="365040"/>
            <a:ext cx="6273720" cy="689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</a:rPr>
              <a:t>Ziemeļvalstu valodu projektu finansējums (I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1782720" y="861840"/>
            <a:ext cx="736128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 – www.nordplusonline.org, projektu piemēri - https://www.nordplusonline.org/projects/project-stories/ 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http://espresso.siu.no/espress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projects/partner-search/#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eTwinning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www.etwinning.net/en/pub/index.htm 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Schoolgateway: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 https://login.schoolgateway.com/0/auth/log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6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hkdir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3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 txBox="1"/>
          <p:nvPr/>
        </p:nvSpPr>
        <p:spPr>
          <a:xfrm>
            <a:off x="4138560" y="1417320"/>
            <a:ext cx="454824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Sagatavošanas vizītes </a:t>
            </a:r>
            <a:r>
              <a:rPr b="0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2060"/>
                </a:solidFill>
                <a:latin typeface="Verdana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8" name="Picture 3" descr=""/>
          <p:cNvPicPr/>
          <p:nvPr/>
        </p:nvPicPr>
        <p:blipFill>
          <a:blip r:embed="rId1"/>
          <a:stretch/>
        </p:blipFill>
        <p:spPr>
          <a:xfrm>
            <a:off x="8568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89" name="Picture 2" descr=""/>
          <p:cNvPicPr/>
          <p:nvPr/>
        </p:nvPicPr>
        <p:blipFill>
          <a:blip r:embed="rId2"/>
          <a:stretch/>
        </p:blipFill>
        <p:spPr>
          <a:xfrm>
            <a:off x="264960" y="1916280"/>
            <a:ext cx="3503880" cy="35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sagatavošanas vizītes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2012760" y="1252440"/>
            <a:ext cx="6870600" cy="2176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Sniedz iespēju </a:t>
            </a:r>
            <a:r>
              <a:rPr b="1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tikties potenciālā projekta partneriem pieteikumu sagatavošanai Jauniešu, Pieaugušo izglītības un Ziemeļvalstu valodu </a:t>
            </a:r>
            <a:r>
              <a:rPr b="0" lang="lv-LV" sz="3000" spc="-1" strike="noStrike">
                <a:solidFill>
                  <a:srgbClr val="002060"/>
                </a:solidFill>
                <a:latin typeface="Calibri"/>
                <a:ea typeface="Verdana"/>
              </a:rPr>
              <a:t>apakšprogrammās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93" name="Picture 2" descr=""/>
          <p:cNvPicPr/>
          <p:nvPr/>
        </p:nvPicPr>
        <p:blipFill>
          <a:blip r:embed="rId2"/>
          <a:stretch/>
        </p:blipFill>
        <p:spPr>
          <a:xfrm>
            <a:off x="0" y="4168800"/>
            <a:ext cx="9212400" cy="1757160"/>
          </a:xfrm>
          <a:prstGeom prst="rect">
            <a:avLst/>
          </a:prstGeom>
          <a:ln w="0">
            <a:noFill/>
          </a:ln>
        </p:spPr>
      </p:pic>
      <p:pic>
        <p:nvPicPr>
          <p:cNvPr id="794" name="Picture 4" descr=""/>
          <p:cNvPicPr/>
          <p:nvPr/>
        </p:nvPicPr>
        <p:blipFill>
          <a:blip r:embed="rId3"/>
          <a:stretch/>
        </p:blipFill>
        <p:spPr>
          <a:xfrm>
            <a:off x="77760" y="2076480"/>
            <a:ext cx="1881360" cy="17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1828440" y="992160"/>
            <a:ext cx="7094520" cy="5160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6000"/>
          </a:bodyPr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2.gada Nordplus projektu konkursu plānots izsludināt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1.novembrī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(paredzamais projektu iesniegšanas termiņš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022.gada 1.februāri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- 2022. gada konkursos projekti tiek aicināti  uzsvērt </a:t>
            </a:r>
            <a:r>
              <a:rPr b="1" lang="lv-LV" sz="22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r>
              <a:rPr b="1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 </a:t>
            </a:r>
            <a:r>
              <a:rPr b="0" lang="ru-RU" sz="2200" spc="-1" strike="noStrike">
                <a:solidFill>
                  <a:srgbClr val="009a00"/>
                </a:solidFill>
                <a:latin typeface="Calibri"/>
                <a:ea typeface="Verdana"/>
              </a:rPr>
              <a:t>(</a:t>
            </a:r>
            <a:r>
              <a:rPr b="0" lang="en-US" sz="2200" spc="-1" strike="noStrike">
                <a:solidFill>
                  <a:srgbClr val="009a00"/>
                </a:solidFill>
                <a:latin typeface="Calibri"/>
                <a:ea typeface="Verdana"/>
              </a:rPr>
              <a:t>“Enhancing Educational Cooperation for a Greener Future” )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Galvenais dokuments projektu sagatavotājiem  - </a:t>
            </a:r>
            <a:r>
              <a:rPr b="1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2022. gada Nordplus rokasgrāmata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tiks publicēta Nordplus oficiālajā mājas lapā pēc  2022. gada konkursa izsludināšana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gada Nordplus rokasgrāmata (angļu valodā) pieejama: https://www.nordplusonline.org/How-to-apply/HANDBOOK#pdf_fram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 txBox="1"/>
          <p:nvPr/>
        </p:nvSpPr>
        <p:spPr>
          <a:xfrm>
            <a:off x="2344680" y="2371320"/>
            <a:ext cx="6354720" cy="4264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264960" indent="-264960" algn="just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no visām 8 programmas dalībvalstīm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iesnieg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331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projektu pieteikumi ar kopējo pieprasīto grantu 14, 84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just">
              <a:lnSpc>
                <a:spcPct val="90000"/>
              </a:lnSpc>
              <a:spcBef>
                <a:spcPts val="550"/>
              </a:spcBef>
              <a:buClr>
                <a:srgbClr val="00206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2021. gadā kopumā 8 programmas dalībvalstīs tika </a:t>
            </a:r>
            <a:r>
              <a:rPr b="0" lang="lv-LV" sz="2200" spc="-1" strike="noStrike" u="sng">
                <a:solidFill>
                  <a:srgbClr val="002060"/>
                </a:solidFill>
                <a:uFillTx/>
                <a:latin typeface="Calibri"/>
                <a:ea typeface="Verdana"/>
              </a:rPr>
              <a:t>apstiprināti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 256 </a:t>
            </a: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projektu pieteikumi (77%) ar kopējo piešķirto grantu </a:t>
            </a:r>
            <a:r>
              <a:rPr b="1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8,59 milj. eu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2060"/>
                </a:solidFill>
                <a:latin typeface="Calibri"/>
                <a:ea typeface="Verdana"/>
              </a:rPr>
              <a:t>Detalizēta informācija par 2021. gada projektu konkursa rezultātiem pieejama Nordplus programmas oficiālajā portālā </a:t>
            </a:r>
            <a:r>
              <a:rPr b="0" lang="lv-LV" sz="2200" spc="-1" strike="noStrike">
                <a:solidFill>
                  <a:srgbClr val="000000"/>
                </a:solidFill>
                <a:latin typeface="Verdana"/>
                <a:ea typeface="Verdana"/>
              </a:rPr>
              <a:t>https://www.nordplusonline.org/news/nordplus-overview/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64960" indent="-264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801" name="Picture 5" descr="A picture containing text, indoor, person&#10;&#10;Description automatically generated"/>
          <p:cNvPicPr/>
          <p:nvPr/>
        </p:nvPicPr>
        <p:blipFill>
          <a:blip r:embed="rId2"/>
          <a:stretch/>
        </p:blipFill>
        <p:spPr>
          <a:xfrm>
            <a:off x="190440" y="2446200"/>
            <a:ext cx="230040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7513078-0655-47A8-8EDF-F8B2163959C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21.gada projektu konkursa  rezultāti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04" name=""/>
          <p:cNvGraphicFramePr/>
          <p:nvPr/>
        </p:nvGraphicFramePr>
        <p:xfrm>
          <a:off x="244440" y="1963800"/>
          <a:ext cx="8745480" cy="3740040"/>
        </p:xfrm>
        <a:graphic>
          <a:graphicData uri="http://schemas.openxmlformats.org/drawingml/2006/table">
            <a:tbl>
              <a:tblPr/>
              <a:tblGrid>
                <a:gridCol w="1249560"/>
                <a:gridCol w="1249200"/>
                <a:gridCol w="1249200"/>
                <a:gridCol w="1249560"/>
                <a:gridCol w="1378080"/>
                <a:gridCol w="1120680"/>
                <a:gridCol w="1249200"/>
              </a:tblGrid>
              <a:tr h="1320480"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 iesnieg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jektu pieteikum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ējais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finansētais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iesnieg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atoru </a:t>
                      </a:r>
                      <a:r>
                        <a:rPr b="1" lang="lv-LV" sz="1600" spc="-1" strike="noStrike" u="sng">
                          <a:solidFill>
                            <a:srgbClr val="002060"/>
                          </a:solidFill>
                          <a:uFillTx/>
                          <a:latin typeface="Calibri"/>
                          <a:ea typeface="Calibri"/>
                        </a:rPr>
                        <a:t>finansēto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 projektu skai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%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no kopējā finansēto projektu skait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bdca8"/>
                    </a:solidFill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7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4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26 (33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3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9a00"/>
                          </a:solidFill>
                          <a:latin typeface="Calibri"/>
                          <a:ea typeface="Calibri"/>
                        </a:rPr>
                        <a:t>5147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 (22 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970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58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 (8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683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10% 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89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Valod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4,5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7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2480">
                <a:tc>
                  <a:txBody>
                    <a:bodyPr lIns="9360" rIns="9360" tIns="9360" bIns="9360" anchor="ctr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6 (17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9</a:t>
                      </a:r>
                      <a:r>
                        <a:rPr b="0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8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147 730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Title 1"/>
          <p:cNvSpPr/>
          <p:nvPr/>
        </p:nvSpPr>
        <p:spPr>
          <a:xfrm>
            <a:off x="2292480" y="473040"/>
            <a:ext cx="6242040" cy="13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Verdana"/>
              </a:rPr>
              <a:t>Nordplus programmas atbalstīto projektu skaits un piešķirtais finansējums Latvijas organizācijām 2008. – 2021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Text Placeholder 3"/>
          <p:cNvSpPr/>
          <p:nvPr/>
        </p:nvSpPr>
        <p:spPr>
          <a:xfrm flipV="1" rot="10800000">
            <a:off x="0" y="5979960"/>
            <a:ext cx="9144000" cy="5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Kopumā visās Nordplus apakšprogrammās no 2008. līdz 2021. gadam apstiprināti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497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Latvijas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 </a:t>
            </a:r>
            <a:r>
              <a:rPr b="0" lang="lv-LV" sz="1500" spc="-1" strike="noStrike">
                <a:solidFill>
                  <a:srgbClr val="002060"/>
                </a:solidFill>
                <a:latin typeface="Verdana"/>
              </a:rPr>
              <a:t>iesniedzēju (koordinatoru) projekti par kopējo summu ~ </a:t>
            </a:r>
            <a:r>
              <a:rPr b="1" lang="lv-LV" sz="1500" spc="-1" strike="noStrike">
                <a:solidFill>
                  <a:srgbClr val="002060"/>
                </a:solidFill>
                <a:latin typeface="Verdana"/>
              </a:rPr>
              <a:t>9 miljoni eiro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Chart 4" descr=""/>
          <p:cNvPicPr/>
          <p:nvPr/>
        </p:nvPicPr>
        <p:blipFill>
          <a:blip r:embed="rId1"/>
          <a:stretch/>
        </p:blipFill>
        <p:spPr>
          <a:xfrm>
            <a:off x="158760" y="1652760"/>
            <a:ext cx="8862840" cy="41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1-09-07T10:35:50Z</dcterms:modified>
  <cp:revision>226</cp:revision>
  <dc:subject/>
  <dc:title>PowerPoint Presentation</dc:title>
</cp:coreProperties>
</file>